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2E6-CF19-4BA2-A637-F4B7F4C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050-1737-4AA0-AE24-49C162AF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9FD-F8D6-4DA5-BDCD-C8375D7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9AE-6ECA-4178-AF38-C4E24AA8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1B7-30EC-4E75-9FD8-29538B0F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F58-C299-4B04-8D50-BEDF01B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800-B734-4FBF-B5C1-65D807A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A9E-1EC1-4480-872D-AFB22DA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A75-374F-49CF-9D2D-14B6F829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49-9D7F-4298-906F-F190886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BB-1899-4833-96D3-7896535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97F-5755-474B-9E80-1D69BF4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F3C7-A295-4A72-A6A7-D2C224B1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51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360" y="404640"/>
            <a:ext cx="877896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Величаем Твоето име, Госп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Царю на ми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Небесата Те възпяв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Слави Те цялата з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Правдата Ти е коро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с благост утвърждаваш Си тр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вое дело е всемиръ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и Си Владетел на вечност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9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51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2560" y="765000"/>
            <a:ext cx="730404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воята вярност е безкр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и към неверните Ти де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Жертвата ти скъпоцен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ни примирява със От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Греховете ни опрощав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и сърцата преобразява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ронове Си ни приготв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в Твоя град на небе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51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240" y="1052640"/>
            <a:ext cx="8235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Пътищата на звезд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се подчиняват на Твоята вла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Силата ни да живе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и подновяваш всеки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С милостта Си ни обкръжав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и мира Си ни подарява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Ти от века Си промисл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Arial"/>
                <a:ea typeface="Arial"/>
              </a:rPr>
              <a:t>бъдеще и надежда за н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59:23Z</dcterms:created>
  <dc:creator>TrifonTrifonow</dc:creator>
  <dc:description/>
  <dc:language>en-US</dc:language>
  <cp:lastModifiedBy>TrifonTrifonow</cp:lastModifiedBy>
  <dcterms:modified xsi:type="dcterms:W3CDTF">2005-09-19T08:09:15Z</dcterms:modified>
  <cp:revision>4</cp:revision>
  <dc:subject/>
  <dc:title>Slide 1</dc:title>
</cp:coreProperties>
</file>